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929-9282-437A-87A9-6001DE74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15B-F343-4A8C-90ED-D473A72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F53-014A-4936-8705-4DABF48D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609-D8B2-48B7-A7CD-630D0FB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5A170-0B43-48C6-98A1-6353CF96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D2DD-A882-4570-96FE-44405F8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E492-4769-4151-B509-83E2FC5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DB62C-2BE4-4EAB-9573-3CA2A019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98B8E-4627-4641-BC08-ED647138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5B12-7AA7-4E5F-BDD8-4A96CB2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10178-B285-4AC9-9914-B763B1B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C60-7094-4972-A2BC-8F4D64FD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A3C53-0102-44BE-9D27-90A2A50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BD063-6F80-406F-B827-671536C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FD3AD-1C2C-402B-82C9-464F2855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F633-3EBE-45EA-B31C-11E7BECE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98A4E-48F9-4A4D-8FF5-A1298349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D22-7581-4DD3-962B-F5D5091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D4F-C657-4675-A75C-73B17DBB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9D0-09D3-47B0-AAA7-988DB47B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404-1419-4D9C-82AE-60E69838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C11-AD8D-44A2-B7AF-AFD06DF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632-96BF-49FD-B625-83F80D4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235-6994-48E3-9928-092226C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52DF-30CC-4955-AD43-C57F67AE2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21E-8E7F-4FAC-8CEF-7FB406C5F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man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ford Shaple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2795760"/>
            <a:ext cx="4495680" cy="3376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6324480" y="1371600"/>
            <a:ext cx="2590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Replay 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9800" y="236232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works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902160" y="18288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2160" y="2286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2160" y="27432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2160" y="3200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2160" y="36576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2880" y="18288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92880" y="2286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2880" y="27432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l garaj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 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18040" cy="464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 d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92440" y="1523880"/>
            <a:ext cx="36846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1081080"/>
            <a:ext cx="5105160" cy="3427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29200" cy="376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076400"/>
            <a:ext cx="3733920" cy="34002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133640"/>
            <a:ext cx="5410440" cy="398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6560" cy="3654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4:29Z</dcterms:created>
  <dc:creator>shapleighbra</dc:creator>
  <dc:description/>
  <dc:language>en-US</dc:language>
  <cp:lastModifiedBy>shapleighbra</cp:lastModifiedBy>
  <dcterms:modified xsi:type="dcterms:W3CDTF">2012-10-25T17:29:31Z</dcterms:modified>
  <cp:revision>5</cp:revision>
  <dc:subject/>
  <dc:title>La casa</dc:title>
</cp:coreProperties>
</file>